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ABB-EE45-4BE0-AF4D-7C86512B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C74-9C9A-4E76-B00A-6522538B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23E-ED94-4AA0-B51B-2ED916D9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F0B-6F36-47C8-8427-16A87FD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725-09E8-43E3-AFF2-31B3215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F1C-BE1C-42EF-8649-0FA71427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639-456E-4F99-92BB-DA295D64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2B8-5486-4E1C-80DD-C760490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B1F-BE12-465D-A490-5C15F22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CBF-393A-42C4-840C-7F57909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111-5DEE-4EB9-A6D8-E90A701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32A-0BE9-428E-90B1-6919EEB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C59-640D-4C5F-A104-8069D1A8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06:58Z</dcterms:modified>
  <cp:revision>4</cp:revision>
  <dc:subject/>
  <dc:title>Slide 1</dc:title>
</cp:coreProperties>
</file>